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CE1-C5A0-496D-8224-2FDFAE8E94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84B-C394-484B-8DC4-AAA947F7A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1291-BF38-49CB-82E6-951BDF2C3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13FB-0AB6-44A6-BD68-51823C3E1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036-8B3E-48D8-84CB-DE0941947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8DB-A821-44DE-8539-81C7518D0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CDB-F692-4D78-BF9C-2E7D337FC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0D7F-B826-40C5-A70C-4498F14DF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9766-BAEB-4A41-8F23-FE02E21EA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B5EC-2F30-4616-AD5C-317532CA2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52C-1138-4EC7-B41C-B93E26B27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6197-1884-4FB9-AABE-D503D3914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FAB-E0CF-449F-A193-D4095264C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32AE-1D60-461A-8994-F4C4EAA8F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2D92-4934-4EFB-9F14-EE112912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6700-471C-453E-B6B6-7BC0029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11D8-C231-499F-AA46-F3FF58D2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7A0-FE19-4391-97A0-1E061155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39C1-E35F-4598-ADAB-9C60B944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D995-F635-4A55-8370-B8E8A1A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6A4F-B40B-4EA3-AF93-DE7703F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8F8F-5B66-44CB-8E24-44088792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4E4C-2A30-4731-B60C-34D8D870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56ED-E4EE-4EB5-9506-6D3ADA5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9357-B4C4-4568-BF73-2DB9C273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AF8F1-1B73-4259-91AD-5FA96290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6B0B-2CB2-4B34-A02E-6426E5F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6A69-1117-413F-9420-F4750E37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E6D-C7AD-46C9-ACE2-2340AAD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DE3C-C980-49A7-BD88-5AF95477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F96-13CD-4EE9-8929-EDFAE55E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6021-6BB1-452A-943F-CA15D9BE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F75F-F5B3-484E-A8DD-F3472DA3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3AAD-7DA0-443A-AD35-DB27025E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755F-A797-436D-A4ED-515CFE52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1709-BA93-4F97-960F-895A3A8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C06F-6909-4739-8219-0D0E3C5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87A8-E2D9-48A6-A258-251D329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BB34-DB78-41EE-B5E8-48D896153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C995-6E7F-43B8-A3C6-0F778D27BE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7807320" cy="107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214200" y="1285920"/>
            <a:ext cx="84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нансы в экономи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6"/>
          <p:cNvGraphicFramePr/>
          <p:nvPr/>
        </p:nvGraphicFramePr>
        <p:xfrm>
          <a:off x="2643120" y="207180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3120" y="207180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10"/>
          <p:cNvGrpSpPr/>
          <p:nvPr/>
        </p:nvGrpSpPr>
        <p:grpSpPr>
          <a:xfrm>
            <a:off x="4786200" y="4357800"/>
            <a:ext cx="3959640" cy="1794240"/>
            <a:chOff x="4786200" y="4357800"/>
            <a:chExt cx="3959640" cy="1794240"/>
          </a:xfrm>
        </p:grpSpPr>
        <p:grpSp>
          <p:nvGrpSpPr>
            <p:cNvPr id="526" name="Group 11"/>
            <p:cNvGrpSpPr/>
            <p:nvPr/>
          </p:nvGrpSpPr>
          <p:grpSpPr>
            <a:xfrm>
              <a:off x="4786200" y="4357800"/>
              <a:ext cx="3959640" cy="1794240"/>
              <a:chOff x="4786200" y="4357800"/>
              <a:chExt cx="3959640" cy="1794240"/>
            </a:xfrm>
          </p:grpSpPr>
          <p:sp>
            <p:nvSpPr>
              <p:cNvPr id="527" name="Freeform 12"/>
              <p:cNvSpPr/>
              <p:nvPr/>
            </p:nvSpPr>
            <p:spPr>
              <a:xfrm>
                <a:off x="4845960" y="490932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"/>
              <p:cNvSpPr/>
              <p:nvPr/>
            </p:nvSpPr>
            <p:spPr>
              <a:xfrm>
                <a:off x="4836600" y="4805640"/>
                <a:ext cx="3685320" cy="120708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4"/>
              <p:cNvSpPr/>
              <p:nvPr/>
            </p:nvSpPr>
            <p:spPr>
              <a:xfrm>
                <a:off x="4856400" y="4704840"/>
                <a:ext cx="3684600" cy="12038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5"/>
              <p:cNvSpPr/>
              <p:nvPr/>
            </p:nvSpPr>
            <p:spPr>
              <a:xfrm>
                <a:off x="4786200" y="4601160"/>
                <a:ext cx="3873600" cy="124560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6"/>
              <p:cNvSpPr/>
              <p:nvPr/>
            </p:nvSpPr>
            <p:spPr>
              <a:xfrm>
                <a:off x="4817880" y="4511520"/>
                <a:ext cx="3684600" cy="120456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7"/>
              <p:cNvSpPr/>
              <p:nvPr/>
            </p:nvSpPr>
            <p:spPr>
              <a:xfrm>
                <a:off x="4875120" y="4357800"/>
                <a:ext cx="3870720" cy="124272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18"/>
            <p:cNvGrpSpPr/>
            <p:nvPr/>
          </p:nvGrpSpPr>
          <p:grpSpPr>
            <a:xfrm>
              <a:off x="6127560" y="4547520"/>
              <a:ext cx="1234800" cy="1040760"/>
              <a:chOff x="6127560" y="4547520"/>
              <a:chExt cx="1234800" cy="1040760"/>
            </a:xfrm>
          </p:grpSpPr>
          <p:sp>
            <p:nvSpPr>
              <p:cNvPr id="534" name="Freeform 19"/>
              <p:cNvSpPr/>
              <p:nvPr/>
            </p:nvSpPr>
            <p:spPr>
              <a:xfrm>
                <a:off x="6127560" y="454752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0"/>
              <p:cNvSpPr/>
              <p:nvPr/>
            </p:nvSpPr>
            <p:spPr>
              <a:xfrm>
                <a:off x="7065720" y="497448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фля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обесценивания денег, который проявляется в виде долговременного повышения цен на товары и услуги (объем денежной массы значительно возрастает – количество товаров и услуг не увеличивае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ы инфля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зуч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, при которой темпы роста цен на товары и услуги не превышает 10-15%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лопирующая 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качкообразный рост 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иперинф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нфляция с очень высоким темпом роста цен (более 50% в месяц), наиболее тяжелая форма экономического кри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ричины инфля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спро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яется, когда спрос превышает предложение, что ведет к росту цен (доходы населения  предприятий растут быстрее реального объема товаров и у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ляция издерж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ет как следствие повышения издержек на единицу продукции. На уровень издержек производства могут влиять изменение величины налогов на производителя, увеличение з/п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Антиинфляционная политика государ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срочная денежная политик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жестких ограничений на ежегодные приросты денежной 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государственного бюдже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увеличения доходов и уменьшения расходов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инфляционные мероприя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билизация и стимул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ние налог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мер по регулированию цен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нансы играют огромную роль в структуре рыночных отношений и механизме их государственного регулир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250920" y="260280"/>
            <a:ext cx="6408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ляция: виды, причины и посл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Финан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экономических отношений в процессе использования денеж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8"/>
          <p:cNvGraphicFramePr/>
          <p:nvPr/>
        </p:nvGraphicFramePr>
        <p:xfrm>
          <a:off x="395280" y="2060640"/>
          <a:ext cx="3240000" cy="36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3240000" cy="36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5" name="Group 10"/>
          <p:cNvGrpSpPr/>
          <p:nvPr/>
        </p:nvGrpSpPr>
        <p:grpSpPr>
          <a:xfrm>
            <a:off x="1258920" y="4724280"/>
            <a:ext cx="3959280" cy="1794600"/>
            <a:chOff x="1258920" y="4724280"/>
            <a:chExt cx="3959280" cy="1794600"/>
          </a:xfrm>
        </p:grpSpPr>
        <p:grpSp>
          <p:nvGrpSpPr>
            <p:cNvPr id="546" name="Group 11"/>
            <p:cNvGrpSpPr/>
            <p:nvPr/>
          </p:nvGrpSpPr>
          <p:grpSpPr>
            <a:xfrm>
              <a:off x="1258920" y="4724280"/>
              <a:ext cx="3959280" cy="1794600"/>
              <a:chOff x="1258920" y="4724280"/>
              <a:chExt cx="3959280" cy="1794600"/>
            </a:xfrm>
          </p:grpSpPr>
          <p:sp>
            <p:nvSpPr>
              <p:cNvPr id="547" name="Freeform 12"/>
              <p:cNvSpPr/>
              <p:nvPr/>
            </p:nvSpPr>
            <p:spPr>
              <a:xfrm>
                <a:off x="1318680" y="527580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8" h="1257">
                    <a:moveTo>
                      <a:pt x="241" y="570"/>
                    </a:moveTo>
                    <a:lnTo>
                      <a:pt x="0" y="623"/>
                    </a:lnTo>
                    <a:lnTo>
                      <a:pt x="213" y="713"/>
                    </a:lnTo>
                    <a:lnTo>
                      <a:pt x="427" y="776"/>
                    </a:lnTo>
                    <a:lnTo>
                      <a:pt x="614" y="817"/>
                    </a:lnTo>
                    <a:lnTo>
                      <a:pt x="734" y="883"/>
                    </a:lnTo>
                    <a:lnTo>
                      <a:pt x="903" y="999"/>
                    </a:lnTo>
                    <a:lnTo>
                      <a:pt x="1052" y="1153"/>
                    </a:lnTo>
                    <a:lnTo>
                      <a:pt x="1210" y="1233"/>
                    </a:lnTo>
                    <a:lnTo>
                      <a:pt x="1313" y="1257"/>
                    </a:lnTo>
                    <a:lnTo>
                      <a:pt x="1453" y="1141"/>
                    </a:lnTo>
                    <a:lnTo>
                      <a:pt x="1591" y="1025"/>
                    </a:lnTo>
                    <a:lnTo>
                      <a:pt x="1871" y="883"/>
                    </a:lnTo>
                    <a:lnTo>
                      <a:pt x="2103" y="790"/>
                    </a:lnTo>
                    <a:lnTo>
                      <a:pt x="2474" y="623"/>
                    </a:lnTo>
                    <a:lnTo>
                      <a:pt x="3053" y="415"/>
                    </a:lnTo>
                    <a:lnTo>
                      <a:pt x="3238" y="350"/>
                    </a:lnTo>
                    <a:lnTo>
                      <a:pt x="3424" y="324"/>
                    </a:lnTo>
                    <a:lnTo>
                      <a:pt x="3638" y="350"/>
                    </a:lnTo>
                    <a:lnTo>
                      <a:pt x="3220" y="246"/>
                    </a:lnTo>
                    <a:lnTo>
                      <a:pt x="2922" y="260"/>
                    </a:lnTo>
                    <a:lnTo>
                      <a:pt x="2502" y="182"/>
                    </a:lnTo>
                    <a:lnTo>
                      <a:pt x="2195" y="65"/>
                    </a:lnTo>
                    <a:lnTo>
                      <a:pt x="1963" y="0"/>
                    </a:lnTo>
                    <a:lnTo>
                      <a:pt x="1684" y="182"/>
                    </a:lnTo>
                    <a:lnTo>
                      <a:pt x="1173" y="389"/>
                    </a:lnTo>
                    <a:lnTo>
                      <a:pt x="698" y="518"/>
                    </a:lnTo>
                    <a:lnTo>
                      <a:pt x="241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"/>
              <p:cNvSpPr/>
              <p:nvPr/>
            </p:nvSpPr>
            <p:spPr>
              <a:xfrm>
                <a:off x="1309320" y="5172120"/>
                <a:ext cx="3684960" cy="120744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6" y="545"/>
                    </a:lnTo>
                    <a:lnTo>
                      <a:pt x="809" y="506"/>
                    </a:lnTo>
                    <a:lnTo>
                      <a:pt x="1135" y="403"/>
                    </a:lnTo>
                    <a:lnTo>
                      <a:pt x="1442" y="272"/>
                    </a:lnTo>
                    <a:lnTo>
                      <a:pt x="1675" y="182"/>
                    </a:lnTo>
                    <a:lnTo>
                      <a:pt x="1814" y="104"/>
                    </a:lnTo>
                    <a:lnTo>
                      <a:pt x="1908" y="0"/>
                    </a:lnTo>
                    <a:lnTo>
                      <a:pt x="2103" y="90"/>
                    </a:lnTo>
                    <a:lnTo>
                      <a:pt x="2316" y="130"/>
                    </a:lnTo>
                    <a:lnTo>
                      <a:pt x="2642" y="232"/>
                    </a:lnTo>
                    <a:lnTo>
                      <a:pt x="2969" y="272"/>
                    </a:lnTo>
                    <a:lnTo>
                      <a:pt x="3248" y="232"/>
                    </a:lnTo>
                    <a:lnTo>
                      <a:pt x="3461" y="208"/>
                    </a:lnTo>
                    <a:lnTo>
                      <a:pt x="3238" y="350"/>
                    </a:lnTo>
                    <a:lnTo>
                      <a:pt x="3071" y="414"/>
                    </a:lnTo>
                    <a:lnTo>
                      <a:pt x="2875" y="519"/>
                    </a:lnTo>
                    <a:lnTo>
                      <a:pt x="2447" y="648"/>
                    </a:lnTo>
                    <a:lnTo>
                      <a:pt x="2112" y="752"/>
                    </a:lnTo>
                    <a:lnTo>
                      <a:pt x="1842" y="907"/>
                    </a:lnTo>
                    <a:lnTo>
                      <a:pt x="1562" y="1024"/>
                    </a:lnTo>
                    <a:lnTo>
                      <a:pt x="1266" y="1155"/>
                    </a:lnTo>
                    <a:lnTo>
                      <a:pt x="1182" y="1219"/>
                    </a:lnTo>
                    <a:lnTo>
                      <a:pt x="1005" y="1063"/>
                    </a:lnTo>
                    <a:lnTo>
                      <a:pt x="772" y="880"/>
                    </a:lnTo>
                    <a:lnTo>
                      <a:pt x="576" y="817"/>
                    </a:lnTo>
                    <a:lnTo>
                      <a:pt x="335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4"/>
              <p:cNvSpPr/>
              <p:nvPr/>
            </p:nvSpPr>
            <p:spPr>
              <a:xfrm>
                <a:off x="1329120" y="5071320"/>
                <a:ext cx="3684240" cy="120420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6" y="570"/>
                    </a:lnTo>
                    <a:lnTo>
                      <a:pt x="594" y="544"/>
                    </a:lnTo>
                    <a:lnTo>
                      <a:pt x="808" y="507"/>
                    </a:lnTo>
                    <a:lnTo>
                      <a:pt x="1136" y="402"/>
                    </a:lnTo>
                    <a:lnTo>
                      <a:pt x="1443" y="273"/>
                    </a:lnTo>
                    <a:lnTo>
                      <a:pt x="1675" y="183"/>
                    </a:lnTo>
                    <a:lnTo>
                      <a:pt x="1814" y="104"/>
                    </a:lnTo>
                    <a:lnTo>
                      <a:pt x="1907" y="0"/>
                    </a:lnTo>
                    <a:lnTo>
                      <a:pt x="2102" y="92"/>
                    </a:lnTo>
                    <a:lnTo>
                      <a:pt x="2317" y="130"/>
                    </a:lnTo>
                    <a:lnTo>
                      <a:pt x="2642" y="234"/>
                    </a:lnTo>
                    <a:lnTo>
                      <a:pt x="2968" y="273"/>
                    </a:lnTo>
                    <a:lnTo>
                      <a:pt x="3247" y="234"/>
                    </a:lnTo>
                    <a:lnTo>
                      <a:pt x="3461" y="208"/>
                    </a:lnTo>
                    <a:lnTo>
                      <a:pt x="3237" y="350"/>
                    </a:lnTo>
                    <a:lnTo>
                      <a:pt x="3070" y="416"/>
                    </a:lnTo>
                    <a:lnTo>
                      <a:pt x="2875" y="518"/>
                    </a:lnTo>
                    <a:lnTo>
                      <a:pt x="2447" y="649"/>
                    </a:lnTo>
                    <a:lnTo>
                      <a:pt x="2113" y="752"/>
                    </a:lnTo>
                    <a:lnTo>
                      <a:pt x="1842" y="908"/>
                    </a:lnTo>
                    <a:lnTo>
                      <a:pt x="1563" y="1025"/>
                    </a:lnTo>
                    <a:lnTo>
                      <a:pt x="1265" y="1156"/>
                    </a:lnTo>
                    <a:lnTo>
                      <a:pt x="1182" y="1219"/>
                    </a:lnTo>
                    <a:lnTo>
                      <a:pt x="1005" y="1065"/>
                    </a:lnTo>
                    <a:lnTo>
                      <a:pt x="772" y="882"/>
                    </a:lnTo>
                    <a:lnTo>
                      <a:pt x="577" y="816"/>
                    </a:lnTo>
                    <a:lnTo>
                      <a:pt x="334" y="765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5"/>
              <p:cNvSpPr/>
              <p:nvPr/>
            </p:nvSpPr>
            <p:spPr>
              <a:xfrm>
                <a:off x="1258920" y="4967640"/>
                <a:ext cx="3873240" cy="1245960"/>
              </a:xfrm>
              <a:custGeom>
                <a:avLst/>
                <a:gdLst/>
                <a:ahLst/>
                <a:rect l="l" t="t" r="r" b="b"/>
                <a:pathLst>
                  <a:path w="3637" h="1261">
                    <a:moveTo>
                      <a:pt x="241" y="573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8" y="779"/>
                    </a:lnTo>
                    <a:lnTo>
                      <a:pt x="613" y="819"/>
                    </a:lnTo>
                    <a:lnTo>
                      <a:pt x="733" y="883"/>
                    </a:lnTo>
                    <a:lnTo>
                      <a:pt x="902" y="999"/>
                    </a:lnTo>
                    <a:lnTo>
                      <a:pt x="1051" y="1156"/>
                    </a:lnTo>
                    <a:lnTo>
                      <a:pt x="1209" y="1233"/>
                    </a:lnTo>
                    <a:lnTo>
                      <a:pt x="1312" y="1261"/>
                    </a:lnTo>
                    <a:lnTo>
                      <a:pt x="1451" y="1144"/>
                    </a:lnTo>
                    <a:lnTo>
                      <a:pt x="1591" y="1026"/>
                    </a:lnTo>
                    <a:lnTo>
                      <a:pt x="1869" y="883"/>
                    </a:lnTo>
                    <a:lnTo>
                      <a:pt x="2102" y="791"/>
                    </a:lnTo>
                    <a:lnTo>
                      <a:pt x="2473" y="623"/>
                    </a:lnTo>
                    <a:lnTo>
                      <a:pt x="3051" y="417"/>
                    </a:lnTo>
                    <a:lnTo>
                      <a:pt x="3238" y="352"/>
                    </a:lnTo>
                    <a:lnTo>
                      <a:pt x="3422" y="325"/>
                    </a:lnTo>
                    <a:lnTo>
                      <a:pt x="3637" y="352"/>
                    </a:lnTo>
                    <a:lnTo>
                      <a:pt x="3219" y="249"/>
                    </a:lnTo>
                    <a:lnTo>
                      <a:pt x="2921" y="262"/>
                    </a:lnTo>
                    <a:lnTo>
                      <a:pt x="2502" y="183"/>
                    </a:lnTo>
                    <a:lnTo>
                      <a:pt x="2195" y="65"/>
                    </a:lnTo>
                    <a:lnTo>
                      <a:pt x="1962" y="0"/>
                    </a:lnTo>
                    <a:lnTo>
                      <a:pt x="1684" y="183"/>
                    </a:lnTo>
                    <a:lnTo>
                      <a:pt x="1172" y="391"/>
                    </a:lnTo>
                    <a:lnTo>
                      <a:pt x="697" y="521"/>
                    </a:lnTo>
                    <a:lnTo>
                      <a:pt x="241" y="573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6"/>
              <p:cNvSpPr/>
              <p:nvPr/>
            </p:nvSpPr>
            <p:spPr>
              <a:xfrm>
                <a:off x="1290600" y="4878000"/>
                <a:ext cx="3684240" cy="1204920"/>
              </a:xfrm>
              <a:custGeom>
                <a:avLst/>
                <a:gdLst/>
                <a:ahLst/>
                <a:rect l="l" t="t" r="r" b="b"/>
                <a:pathLst>
                  <a:path w="3461" h="1219">
                    <a:moveTo>
                      <a:pt x="0" y="570"/>
                    </a:moveTo>
                    <a:lnTo>
                      <a:pt x="324" y="570"/>
                    </a:lnTo>
                    <a:lnTo>
                      <a:pt x="594" y="544"/>
                    </a:lnTo>
                    <a:lnTo>
                      <a:pt x="809" y="506"/>
                    </a:lnTo>
                    <a:lnTo>
                      <a:pt x="1135" y="402"/>
                    </a:lnTo>
                    <a:lnTo>
                      <a:pt x="1442" y="272"/>
                    </a:lnTo>
                    <a:lnTo>
                      <a:pt x="1674" y="180"/>
                    </a:lnTo>
                    <a:lnTo>
                      <a:pt x="1814" y="103"/>
                    </a:lnTo>
                    <a:lnTo>
                      <a:pt x="1907" y="0"/>
                    </a:lnTo>
                    <a:lnTo>
                      <a:pt x="2103" y="89"/>
                    </a:lnTo>
                    <a:lnTo>
                      <a:pt x="2317" y="128"/>
                    </a:lnTo>
                    <a:lnTo>
                      <a:pt x="2641" y="235"/>
                    </a:lnTo>
                    <a:lnTo>
                      <a:pt x="2969" y="272"/>
                    </a:lnTo>
                    <a:lnTo>
                      <a:pt x="3247" y="235"/>
                    </a:lnTo>
                    <a:lnTo>
                      <a:pt x="3461" y="205"/>
                    </a:lnTo>
                    <a:lnTo>
                      <a:pt x="3238" y="351"/>
                    </a:lnTo>
                    <a:lnTo>
                      <a:pt x="3071" y="414"/>
                    </a:lnTo>
                    <a:lnTo>
                      <a:pt x="2876" y="519"/>
                    </a:lnTo>
                    <a:lnTo>
                      <a:pt x="2445" y="648"/>
                    </a:lnTo>
                    <a:lnTo>
                      <a:pt x="2111" y="752"/>
                    </a:lnTo>
                    <a:lnTo>
                      <a:pt x="1843" y="908"/>
                    </a:lnTo>
                    <a:lnTo>
                      <a:pt x="1563" y="1025"/>
                    </a:lnTo>
                    <a:lnTo>
                      <a:pt x="1266" y="1154"/>
                    </a:lnTo>
                    <a:lnTo>
                      <a:pt x="1182" y="1219"/>
                    </a:lnTo>
                    <a:lnTo>
                      <a:pt x="1006" y="1062"/>
                    </a:lnTo>
                    <a:lnTo>
                      <a:pt x="771" y="880"/>
                    </a:lnTo>
                    <a:lnTo>
                      <a:pt x="576" y="817"/>
                    </a:lnTo>
                    <a:lnTo>
                      <a:pt x="334" y="764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f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7"/>
              <p:cNvSpPr/>
              <p:nvPr/>
            </p:nvSpPr>
            <p:spPr>
              <a:xfrm>
                <a:off x="1347840" y="4724280"/>
                <a:ext cx="3870360" cy="1243080"/>
              </a:xfrm>
              <a:custGeom>
                <a:avLst/>
                <a:gdLst/>
                <a:ahLst/>
                <a:rect l="l" t="t" r="r" b="b"/>
                <a:pathLst>
                  <a:path w="3636" h="1258">
                    <a:moveTo>
                      <a:pt x="240" y="570"/>
                    </a:moveTo>
                    <a:lnTo>
                      <a:pt x="0" y="623"/>
                    </a:lnTo>
                    <a:lnTo>
                      <a:pt x="212" y="715"/>
                    </a:lnTo>
                    <a:lnTo>
                      <a:pt x="427" y="778"/>
                    </a:lnTo>
                    <a:lnTo>
                      <a:pt x="613" y="818"/>
                    </a:lnTo>
                    <a:lnTo>
                      <a:pt x="734" y="882"/>
                    </a:lnTo>
                    <a:lnTo>
                      <a:pt x="902" y="999"/>
                    </a:lnTo>
                    <a:lnTo>
                      <a:pt x="1050" y="1152"/>
                    </a:lnTo>
                    <a:lnTo>
                      <a:pt x="1209" y="1232"/>
                    </a:lnTo>
                    <a:lnTo>
                      <a:pt x="1311" y="1258"/>
                    </a:lnTo>
                    <a:lnTo>
                      <a:pt x="1451" y="1141"/>
                    </a:lnTo>
                    <a:lnTo>
                      <a:pt x="1591" y="1024"/>
                    </a:lnTo>
                    <a:lnTo>
                      <a:pt x="1869" y="882"/>
                    </a:lnTo>
                    <a:lnTo>
                      <a:pt x="2102" y="792"/>
                    </a:lnTo>
                    <a:lnTo>
                      <a:pt x="2473" y="623"/>
                    </a:lnTo>
                    <a:lnTo>
                      <a:pt x="3051" y="416"/>
                    </a:lnTo>
                    <a:lnTo>
                      <a:pt x="3238" y="350"/>
                    </a:lnTo>
                    <a:lnTo>
                      <a:pt x="3422" y="324"/>
                    </a:lnTo>
                    <a:lnTo>
                      <a:pt x="3636" y="350"/>
                    </a:lnTo>
                    <a:lnTo>
                      <a:pt x="3218" y="245"/>
                    </a:lnTo>
                    <a:lnTo>
                      <a:pt x="2920" y="259"/>
                    </a:lnTo>
                    <a:lnTo>
                      <a:pt x="2501" y="182"/>
                    </a:lnTo>
                    <a:lnTo>
                      <a:pt x="2194" y="66"/>
                    </a:lnTo>
                    <a:lnTo>
                      <a:pt x="1962" y="0"/>
                    </a:lnTo>
                    <a:lnTo>
                      <a:pt x="1684" y="182"/>
                    </a:lnTo>
                    <a:lnTo>
                      <a:pt x="1173" y="391"/>
                    </a:lnTo>
                    <a:lnTo>
                      <a:pt x="696" y="518"/>
                    </a:lnTo>
                    <a:lnTo>
                      <a:pt x="240" y="570"/>
                    </a:lnTo>
                    <a:close/>
                  </a:path>
                </a:pathLst>
              </a:custGeom>
              <a:solidFill>
                <a:srgbClr val="008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18"/>
            <p:cNvGrpSpPr/>
            <p:nvPr/>
          </p:nvGrpSpPr>
          <p:grpSpPr>
            <a:xfrm>
              <a:off x="2600280" y="4914000"/>
              <a:ext cx="1234800" cy="1040760"/>
              <a:chOff x="2600280" y="4914000"/>
              <a:chExt cx="1234800" cy="1040760"/>
            </a:xfrm>
          </p:grpSpPr>
          <p:sp>
            <p:nvSpPr>
              <p:cNvPr id="554" name="Freeform 19"/>
              <p:cNvSpPr/>
              <p:nvPr/>
            </p:nvSpPr>
            <p:spPr>
              <a:xfrm>
                <a:off x="2600280" y="4914000"/>
                <a:ext cx="1216080" cy="554760"/>
              </a:xfrm>
              <a:custGeom>
                <a:avLst/>
                <a:gdLst/>
                <a:ahLst/>
                <a:rect l="l" t="t" r="r" b="b"/>
                <a:pathLst>
                  <a:path w="1143" h="559">
                    <a:moveTo>
                      <a:pt x="0" y="131"/>
                    </a:moveTo>
                    <a:lnTo>
                      <a:pt x="874" y="559"/>
                    </a:lnTo>
                    <a:lnTo>
                      <a:pt x="1143" y="443"/>
                    </a:lnTo>
                    <a:lnTo>
                      <a:pt x="268" y="0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bf5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0"/>
              <p:cNvSpPr/>
              <p:nvPr/>
            </p:nvSpPr>
            <p:spPr>
              <a:xfrm>
                <a:off x="3538440" y="5340960"/>
                <a:ext cx="296640" cy="613800"/>
              </a:xfrm>
              <a:custGeom>
                <a:avLst/>
                <a:gdLst/>
                <a:ahLst/>
                <a:rect l="l" t="t" r="r" b="b"/>
                <a:pathLst>
                  <a:path w="279" h="621">
                    <a:moveTo>
                      <a:pt x="0" y="129"/>
                    </a:moveTo>
                    <a:lnTo>
                      <a:pt x="270" y="0"/>
                    </a:lnTo>
                    <a:lnTo>
                      <a:pt x="279" y="492"/>
                    </a:lnTo>
                    <a:lnTo>
                      <a:pt x="0" y="621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7f3f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Банковская система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действующих в стране банков и других кредитных учреждений и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2411280" y="3573360"/>
            <a:ext cx="39610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АЛЬНЫЙ БА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395280" y="5013360"/>
            <a:ext cx="352728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мерческие ба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4572000" y="5013360"/>
            <a:ext cx="4248000" cy="719280"/>
          </a:xfrm>
          <a:prstGeom prst="rect">
            <a:avLst/>
          </a:prstGeom>
          <a:solidFill>
            <a:srgbClr val="eaeae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угие финансово-креди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4"/>
          <p:cNvSpPr/>
          <p:nvPr/>
        </p:nvSpPr>
        <p:spPr>
          <a:xfrm flipH="1">
            <a:off x="2050920" y="4292640"/>
            <a:ext cx="2376720" cy="72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5"/>
          <p:cNvSpPr/>
          <p:nvPr/>
        </p:nvSpPr>
        <p:spPr>
          <a:xfrm>
            <a:off x="4356000" y="4292640"/>
            <a:ext cx="223200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ные функции Центрального ба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ение денежно- кредитной политики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дитование коммерческих ба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ение стабильной деятельности банковской и финансовой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держание устойчивости национальной денежной 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анение запасов денежных средств и зо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25056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Типы коммерческих бан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аслев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отрасле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все отрасли эконом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ба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бслуживают определенные регионы 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перации коммерческого бан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мобилизации денежных ресурсов: прием вкладов (депозитов); получение кредитов от других банков и центрального банка; выпуск собственных ценных бум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и по размещению средств: предоставление различных по срокам и размерам кред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инансово- кредитные учреж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пливают свободные денежные средства и предоставляют их тем, кто нуждается в дополнительном капитале или финансов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Пенсионный фон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д, создаваемый частными и государственными компаниями, предприятиями для выплаты пенсий и пособий лицам, вносящим пенсионные взносы в этот фо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Инвестиционн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 кредитный институт, собирающий денежные средства частных инвесторов через продажу им собственных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Страховы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и, оказывающие страховые услуги, предназначены для возмещения ущерба, потерь несчастными случа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Фондовые бирж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уются на продаже и покупке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ежгосударственные финансово-кредитные институ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Мировой банк, Международный валютный фонд, Европейский банк реконструкции и развития и др.). Они занимаются финансированием и кредитованием разных стран, содействуют мировой торговле, оказывают помощь в стабилизации финанс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0920" y="260280"/>
            <a:ext cx="3708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250920" y="76500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5:44:14Z</dcterms:created>
  <dc:creator>lubasha</dc:creator>
  <dc:description/>
  <dc:language>en-US</dc:language>
  <cp:lastModifiedBy>LEGION</cp:lastModifiedBy>
  <dcterms:modified xsi:type="dcterms:W3CDTF">2015-01-05T09:58:46Z</dcterms:modified>
  <cp:revision>8</cp:revision>
  <dc:subject/>
  <dc:title>Слайд 1</dc:title>
</cp:coreProperties>
</file>